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A91-7443-4D4B-83AA-06677E3D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DAF-603C-4791-BEB0-5022B958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4EC-9573-4D0F-9579-3A593511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0E0-43B7-4FBD-A187-3D130C3D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922-A21A-4D84-B56F-888231A2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996-1BF1-4C4D-9DB1-8D20B30A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DD7-DC29-44F7-8013-88474673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FAB-0BFA-43B1-8A81-12C6C3F1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CA5-E596-498E-A12E-3A04D31A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40D-D9EA-4AA1-815D-7E68EE0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CF8-9967-4F2C-AB77-4E89FDBE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399-E6DE-4B31-AF52-25911BA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1201-D3D7-42F6-995A-052A52961AA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7 S Pánom všetko začín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veruj mu ako dieť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, on nikdy nesklame ť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na jeho rady db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a nežne k tebe skláň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ho ruky vždy ťa chráni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neho sa spolieh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ti dáva silu k boj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žehnáva prácu tvój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všetko mu chválu vzd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s Pánom všetko začínaj!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23:05Z</dcterms:modified>
  <cp:revision>68</cp:revision>
  <dc:subject/>
  <dc:title>Je veľký náš Pán, on slávy je Kráľ Nech do všetkých strán  spev vrúcnych znie chvál.</dc:title>
</cp:coreProperties>
</file>